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9651F-E962-428D-B365-4FF44F0C0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E69AE-8C17-4727-B987-9E16700B7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E021B-779C-421F-B155-0294FE2FE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AF79B-9374-4E57-9E75-558BBC9D2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A485546-BD73-4C17-A0C6-26662664C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C31C922-6755-44FC-ACAF-8BF51AFE4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3F1D121-7125-4643-A422-C180F5B32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347029-CFDC-4D7C-B06B-84D874104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765447-20CE-4BEF-AFF5-4F88F66B7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F34326-E43E-41AF-B816-42B35A464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6D6E86-CA42-4115-8366-EC3E9DD72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72F1D-6759-4A17-B5BA-6C092A0CC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F06116-68FA-4E3A-A95E-08D0C4AFA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A4944B-673F-4845-ACB4-5B1E2DF32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82E513-796E-4E55-8B95-061397E2C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D28632D-C80B-4313-BF78-C7615A961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76ABEBF-6934-40E1-9C1F-2F03EDC1F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300C330-16FE-4CA3-BB35-CEA9843A94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AA4894-17C9-428A-832C-D29A371E62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22C2DC-3688-4F56-AD07-2BDF6E28BC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0366E8-0784-4B68-AC2F-C3D126003E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CF59D0-85B1-4A47-96EF-8F996B239A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F9CE6-582C-4A15-A32D-89DBC6E46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4EF6C9-0FFC-4BA4-8E71-2FF03B4E61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964A35-3F2D-45BA-9275-15D1ABC16F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F2A606-D60F-4405-A996-9D21232606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2F1DC6-2788-463A-BDCB-3431B4CE8C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60C4B7-D9E9-461A-B84D-55A09453D5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60AB89-6B8B-4E19-8DCB-F1093F40452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29E8EB-2349-4348-A8D7-F5A24C092BF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880F71-E7DB-4D39-ACFC-8709B6D36A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24391D-887A-49E5-A672-D1695824D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F22F13-048F-4DEF-A0A0-AA68CF9BC9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7E5EE-3601-46A2-A5A3-98208F831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8A938-3082-4C2E-9C50-A4BFF78C7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7486D-A969-48C6-A935-7B6A81740B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EE4CB0-FCB5-4491-ABC1-BD35008A2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F20BC-7C1E-4C95-917E-40773C711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1E7DA-4D34-47A2-A6A9-0BE10495E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06362-E32E-4682-92B9-7ED7DE01A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C2D3E-F011-4D31-A442-E92985E0C0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A023DA-3495-48CA-B2B0-5C2105F35E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31A02A-4865-450C-A73F-430531B43B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CC023-B81C-4D33-A300-25DD3AE92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3998-4FC1-4A59-A4A9-191D77341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704ED-2A06-4273-A85D-2F45074E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8B9A-B140-46D2-B8B0-20C3FA3D2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3A1B-E644-496F-A660-7AB3119AE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3F92-6D51-4A5E-80A6-2419513CA4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B84C-4E30-4DA8-92D9-0489038C26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2" name=""/>
          <p:cNvGrpSpPr/>
          <p:nvPr/>
        </p:nvGrpSpPr>
        <p:grpSpPr>
          <a:xfrm>
            <a:off x="0" y="0"/>
            <a:ext cx="9159840" cy="6858000"/>
            <a:chOff x="0" y="0"/>
            <a:chExt cx="9159840" cy="6858000"/>
          </a:xfrm>
        </p:grpSpPr>
        <p:sp>
          <p:nvSpPr>
            <p:cNvPr id="12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47"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03D6-D148-441C-8DC0-AD1534FFC36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48"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85" name=""/>
          <p:cNvGrpSpPr/>
          <p:nvPr/>
        </p:nvGrpSpPr>
        <p:grpSpPr>
          <a:xfrm>
            <a:off x="0" y="0"/>
            <a:ext cx="9159840" cy="6858000"/>
            <a:chOff x="0" y="0"/>
            <a:chExt cx="9159840" cy="6858000"/>
          </a:xfrm>
        </p:grpSpPr>
        <p:sp>
          <p:nvSpPr>
            <p:cNvPr id="18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0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1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F6DA-9B8E-4E25-8977-5F0F4BAC3AC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The Growth of Trade and Communities of the Nile  </a:t>
            </a:r>
            <a:endParaRPr b="0" lang="en-US" sz="5400" spc="-1" strike="noStrike">
              <a:solidFill>
                <a:srgbClr val="e3e3ff"/>
              </a:solidFill>
              <a:latin typeface="Arial"/>
            </a:endParaRPr>
          </a:p>
        </p:txBody>
      </p:sp>
      <p:sp>
        <p:nvSpPr>
          <p:cNvPr id="248"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atthew Johnston and Tym Diehl.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ttlements appear</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ound 6000 B.C., hunting and fishing communities are found in Nubia along the Nile riv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ound 5000 B.C., farming communities are found in Nubia and Egypt along the Ni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se settlements grew, so did their tr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ile Life</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inhabitants of the Delta build their villages along the fertile river beds which made farming easi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est of the people living along the Nile build scattered villages along the banks of the Nile River.</a:t>
            </a:r>
            <a:endParaRPr b="0" lang="en-US" sz="3200" spc="-1" strike="noStrike">
              <a:solidFill>
                <a:srgbClr val="ffffff"/>
              </a:solidFill>
              <a:latin typeface="Arial"/>
            </a:endParaRPr>
          </a:p>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bians had less farmland</a:t>
            </a:r>
            <a:r>
              <a:rPr b="0" lang="en-US" sz="3600" spc="-1" strike="noStrike">
                <a:solidFill>
                  <a:srgbClr val="ffffff"/>
                </a:solidFill>
                <a:latin typeface="Arial"/>
              </a:rPr>
              <a:t> </a:t>
            </a:r>
            <a:r>
              <a:rPr b="0" lang="en-US" sz="3200" spc="-1" strike="noStrike">
                <a:solidFill>
                  <a:srgbClr val="ffffff"/>
                </a:solidFill>
                <a:latin typeface="Arial"/>
              </a:rPr>
              <a:t>so they had to add fish and birds such as ducks to their diets.</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gyptian trade</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Egypt would send boats up the Nile and have them trade with nations along the Mediterranean Sea. They would bring back items such as cedar from the East coast of the Mediterrane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The Egyptian land caravans would travel to the Red Sea ports and Mesopotamia. They would carry items such as gold and silver with th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ubian trade</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Cataracts the Nubians had to send caravans to their trade spot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carried ebony wood and ostrich feathers. Each caravan consisted of about 300 donkeys and would travel all over Africa and southwest Asia to tra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anks for watching!</a:t>
            </a:r>
            <a:endParaRPr b="0" lang="en-US" sz="4200" spc="-1" strike="noStrike">
              <a:solidFill>
                <a:srgbClr val="ffffcc"/>
              </a:solidFill>
              <a:latin typeface="Tahoma"/>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e hope you enjoyed the PowerPoi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23:09:05Z</dcterms:created>
  <dc:creator>Alison</dc:creator>
  <dc:description/>
  <dc:language>en-US</dc:language>
  <cp:lastModifiedBy>Alison</cp:lastModifiedBy>
  <dcterms:modified xsi:type="dcterms:W3CDTF">2009-01-12T00:00:21Z</dcterms:modified>
  <cp:revision>3</cp:revision>
  <dc:subject/>
  <dc:title>The Growth of Trade and Communities of the Nile  </dc:title>
</cp:coreProperties>
</file>